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media/image2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3CF7F-709D-4345-84BA-685FBA326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57A92-0026-4615-8559-3163D4F65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9B5B8-051B-464F-9458-40DD67473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BAF6A-AADD-4F11-B3E2-750E0ADE2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3E05F-3599-45A2-8AC3-094D3A352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E36C1-8E58-41FE-A6D6-5CEEA5E1C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42408-E1CA-4CA8-9575-C7F33B08D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8F53E-E029-4724-A64E-20BBF789C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613DB-4176-4715-81E5-F34D117FB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602F8-03CB-4B41-BEAA-0B3F0FD5F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C0BE9-6086-42C3-82CD-0320A9A17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5946D-9480-492D-97E2-DAB85A646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26F0D-20F0-43BA-A836-AF4DAC538A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629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819520" y="304920"/>
            <a:ext cx="3809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Marker Felt"/>
              </a:rPr>
              <a:t>Unit 2- Cell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7010280" y="1066680"/>
            <a:ext cx="182880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y Shawn Zha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llen Samp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llie Sokolof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a Omelyanenk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1905120" y="2590920"/>
            <a:ext cx="3187440" cy="32209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4343400" y="5943600"/>
            <a:ext cx="2060640" cy="654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latin typeface="Arial Black"/>
              </a:rPr>
              <a:t>Animal Cells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latin typeface="Arial Black"/>
              <a:ea typeface="Arial Black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5410080" y="2362320"/>
            <a:ext cx="2320920" cy="525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00ffff"/>
                </a:solidFill>
                <a:latin typeface="Impact"/>
              </a:rPr>
              <a:t>Plant Cell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00ffff"/>
              </a:solidFill>
              <a:latin typeface="Impact"/>
              <a:ea typeface="Impact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1219320" y="1905120"/>
            <a:ext cx="1523880" cy="7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Marker Felt"/>
              </a:rPr>
              <a:t>Mitochondria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Marker Felt"/>
              <a:ea typeface="Marker Felt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791320" y="5181480"/>
            <a:ext cx="2974680" cy="47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36147" dir="2700000" blurRad="0" rotWithShape="0">
                    <a:srgbClr val="c0c0c0"/>
                  </a:outerShdw>
                </a:effectLst>
                <a:latin typeface="Marker Felt"/>
              </a:rPr>
              <a:t>Flagella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36147" dir="2700000" blurRad="0" rotWithShape="0">
                  <a:srgbClr val="c0c0c0"/>
                </a:outerShdw>
              </a:effectLst>
              <a:latin typeface="Marker Felt"/>
              <a:ea typeface="Marker Felt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1295280" y="5867280"/>
            <a:ext cx="1787760" cy="62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Mitosis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5562720" y="4114800"/>
            <a:ext cx="2654280" cy="855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Active Transpor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51" name=""/>
          <p:cNvSpPr txBox="1"/>
          <p:nvPr/>
        </p:nvSpPr>
        <p:spPr>
          <a:xfrm rot="5400000">
            <a:off x="2933640" y="3161520"/>
            <a:ext cx="4380120" cy="647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Osmosis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5257800" y="2666880"/>
            <a:ext cx="3540240" cy="139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333399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Marker Felt"/>
              </a:rPr>
              <a:t>Prokaryote vs. Eukaryote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333399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Marker Felt"/>
              <a:ea typeface="Marker Felt"/>
            </a:endParaRPr>
          </a:p>
        </p:txBody>
      </p:sp>
      <p:sp>
        <p:nvSpPr>
          <p:cNvPr id="53" name=""/>
          <p:cNvSpPr/>
          <p:nvPr/>
        </p:nvSpPr>
        <p:spPr>
          <a:xfrm>
            <a:off x="2209680" y="1295280"/>
            <a:ext cx="1752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Plasma Membr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6019920"/>
            <a:ext cx="198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arker Felt"/>
              </a:rPr>
              <a:t>cell organel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600200"/>
            <a:ext cx="1371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Cell Cy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00200" y="3886200"/>
            <a:ext cx="1676520" cy="914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90720" y="3809880"/>
            <a:ext cx="869760" cy="181080"/>
          </a:xfrm>
          <a:custGeom>
            <a:avLst/>
            <a:gdLst/>
            <a:ahLst/>
            <a:rect l="l" t="t" r="r" b="b"/>
            <a:pathLst>
              <a:path w="548" h="114">
                <a:moveTo>
                  <a:pt x="548" y="105"/>
                </a:moveTo>
                <a:cubicBezTo>
                  <a:pt x="487" y="84"/>
                  <a:pt x="487" y="33"/>
                  <a:pt x="417" y="9"/>
                </a:cubicBezTo>
                <a:cubicBezTo>
                  <a:pt x="396" y="12"/>
                  <a:pt x="374" y="8"/>
                  <a:pt x="356" y="18"/>
                </a:cubicBezTo>
                <a:cubicBezTo>
                  <a:pt x="347" y="22"/>
                  <a:pt x="352" y="36"/>
                  <a:pt x="348" y="44"/>
                </a:cubicBezTo>
                <a:cubicBezTo>
                  <a:pt x="318" y="97"/>
                  <a:pt x="324" y="88"/>
                  <a:pt x="287" y="113"/>
                </a:cubicBezTo>
                <a:cubicBezTo>
                  <a:pt x="263" y="110"/>
                  <a:pt x="238" y="114"/>
                  <a:pt x="217" y="105"/>
                </a:cubicBezTo>
                <a:cubicBezTo>
                  <a:pt x="194" y="95"/>
                  <a:pt x="214" y="54"/>
                  <a:pt x="200" y="35"/>
                </a:cubicBezTo>
                <a:cubicBezTo>
                  <a:pt x="182" y="10"/>
                  <a:pt x="123" y="9"/>
                  <a:pt x="96" y="0"/>
                </a:cubicBezTo>
                <a:cubicBezTo>
                  <a:pt x="66" y="5"/>
                  <a:pt x="30" y="18"/>
                  <a:pt x="0" y="1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2120" y="4038480"/>
            <a:ext cx="869760" cy="181080"/>
          </a:xfrm>
          <a:custGeom>
            <a:avLst/>
            <a:gdLst/>
            <a:ahLst/>
            <a:rect l="l" t="t" r="r" b="b"/>
            <a:pathLst>
              <a:path w="548" h="114">
                <a:moveTo>
                  <a:pt x="548" y="105"/>
                </a:moveTo>
                <a:cubicBezTo>
                  <a:pt x="487" y="84"/>
                  <a:pt x="487" y="33"/>
                  <a:pt x="417" y="9"/>
                </a:cubicBezTo>
                <a:cubicBezTo>
                  <a:pt x="396" y="12"/>
                  <a:pt x="374" y="8"/>
                  <a:pt x="356" y="18"/>
                </a:cubicBezTo>
                <a:cubicBezTo>
                  <a:pt x="347" y="22"/>
                  <a:pt x="352" y="36"/>
                  <a:pt x="348" y="44"/>
                </a:cubicBezTo>
                <a:cubicBezTo>
                  <a:pt x="318" y="97"/>
                  <a:pt x="324" y="88"/>
                  <a:pt x="287" y="113"/>
                </a:cubicBezTo>
                <a:cubicBezTo>
                  <a:pt x="263" y="110"/>
                  <a:pt x="238" y="114"/>
                  <a:pt x="217" y="105"/>
                </a:cubicBezTo>
                <a:cubicBezTo>
                  <a:pt x="194" y="95"/>
                  <a:pt x="214" y="54"/>
                  <a:pt x="200" y="35"/>
                </a:cubicBezTo>
                <a:cubicBezTo>
                  <a:pt x="182" y="10"/>
                  <a:pt x="123" y="9"/>
                  <a:pt x="96" y="0"/>
                </a:cubicBezTo>
                <a:cubicBezTo>
                  <a:pt x="66" y="5"/>
                  <a:pt x="30" y="18"/>
                  <a:pt x="0" y="1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62120" y="4267080"/>
            <a:ext cx="869760" cy="181080"/>
          </a:xfrm>
          <a:custGeom>
            <a:avLst/>
            <a:gdLst/>
            <a:ahLst/>
            <a:rect l="l" t="t" r="r" b="b"/>
            <a:pathLst>
              <a:path w="548" h="114">
                <a:moveTo>
                  <a:pt x="548" y="105"/>
                </a:moveTo>
                <a:cubicBezTo>
                  <a:pt x="487" y="84"/>
                  <a:pt x="487" y="33"/>
                  <a:pt x="417" y="9"/>
                </a:cubicBezTo>
                <a:cubicBezTo>
                  <a:pt x="396" y="12"/>
                  <a:pt x="374" y="8"/>
                  <a:pt x="356" y="18"/>
                </a:cubicBezTo>
                <a:cubicBezTo>
                  <a:pt x="347" y="22"/>
                  <a:pt x="352" y="36"/>
                  <a:pt x="348" y="44"/>
                </a:cubicBezTo>
                <a:cubicBezTo>
                  <a:pt x="318" y="97"/>
                  <a:pt x="324" y="88"/>
                  <a:pt x="287" y="113"/>
                </a:cubicBezTo>
                <a:cubicBezTo>
                  <a:pt x="263" y="110"/>
                  <a:pt x="238" y="114"/>
                  <a:pt x="217" y="105"/>
                </a:cubicBezTo>
                <a:cubicBezTo>
                  <a:pt x="194" y="95"/>
                  <a:pt x="214" y="54"/>
                  <a:pt x="200" y="35"/>
                </a:cubicBezTo>
                <a:cubicBezTo>
                  <a:pt x="182" y="10"/>
                  <a:pt x="123" y="9"/>
                  <a:pt x="96" y="0"/>
                </a:cubicBezTo>
                <a:cubicBezTo>
                  <a:pt x="66" y="5"/>
                  <a:pt x="30" y="18"/>
                  <a:pt x="0" y="1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572000"/>
            <a:ext cx="870120" cy="181080"/>
          </a:xfrm>
          <a:custGeom>
            <a:avLst/>
            <a:gdLst/>
            <a:ahLst/>
            <a:rect l="l" t="t" r="r" b="b"/>
            <a:pathLst>
              <a:path w="548" h="114">
                <a:moveTo>
                  <a:pt x="548" y="105"/>
                </a:moveTo>
                <a:cubicBezTo>
                  <a:pt x="487" y="84"/>
                  <a:pt x="487" y="33"/>
                  <a:pt x="417" y="9"/>
                </a:cubicBezTo>
                <a:cubicBezTo>
                  <a:pt x="396" y="12"/>
                  <a:pt x="374" y="8"/>
                  <a:pt x="356" y="18"/>
                </a:cubicBezTo>
                <a:cubicBezTo>
                  <a:pt x="347" y="22"/>
                  <a:pt x="352" y="36"/>
                  <a:pt x="348" y="44"/>
                </a:cubicBezTo>
                <a:cubicBezTo>
                  <a:pt x="318" y="97"/>
                  <a:pt x="324" y="88"/>
                  <a:pt x="287" y="113"/>
                </a:cubicBezTo>
                <a:cubicBezTo>
                  <a:pt x="263" y="110"/>
                  <a:pt x="238" y="114"/>
                  <a:pt x="217" y="105"/>
                </a:cubicBezTo>
                <a:cubicBezTo>
                  <a:pt x="194" y="95"/>
                  <a:pt x="214" y="54"/>
                  <a:pt x="200" y="35"/>
                </a:cubicBezTo>
                <a:cubicBezTo>
                  <a:pt x="182" y="10"/>
                  <a:pt x="123" y="9"/>
                  <a:pt x="96" y="0"/>
                </a:cubicBezTo>
                <a:cubicBezTo>
                  <a:pt x="66" y="5"/>
                  <a:pt x="30" y="18"/>
                  <a:pt x="0" y="1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438280" y="4114800"/>
            <a:ext cx="22860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830680" y="4362480"/>
            <a:ext cx="441000" cy="276120"/>
          </a:xfrm>
          <a:custGeom>
            <a:avLst/>
            <a:gdLst/>
            <a:ahLst/>
            <a:rect l="l" t="t" r="r" b="b"/>
            <a:pathLst>
              <a:path w="278" h="174">
                <a:moveTo>
                  <a:pt x="278" y="9"/>
                </a:moveTo>
                <a:cubicBezTo>
                  <a:pt x="195" y="62"/>
                  <a:pt x="87" y="30"/>
                  <a:pt x="0" y="0"/>
                </a:cubicBezTo>
                <a:cubicBezTo>
                  <a:pt x="2" y="11"/>
                  <a:pt x="1" y="25"/>
                  <a:pt x="8" y="35"/>
                </a:cubicBezTo>
                <a:cubicBezTo>
                  <a:pt x="19" y="52"/>
                  <a:pt x="40" y="60"/>
                  <a:pt x="52" y="78"/>
                </a:cubicBezTo>
                <a:cubicBezTo>
                  <a:pt x="65" y="97"/>
                  <a:pt x="68" y="107"/>
                  <a:pt x="87" y="122"/>
                </a:cubicBezTo>
                <a:cubicBezTo>
                  <a:pt x="151" y="173"/>
                  <a:pt x="80" y="107"/>
                  <a:pt x="130" y="157"/>
                </a:cubicBezTo>
                <a:cubicBezTo>
                  <a:pt x="135" y="162"/>
                  <a:pt x="148" y="174"/>
                  <a:pt x="148" y="174"/>
                </a:cubicBezTo>
              </a:path>
            </a:pathLst>
          </a:custGeom>
          <a:solidFill>
            <a:srgbClr val="00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1T20:29:19Z</dcterms:created>
  <dc:creator>Ryan  Sokoloff</dc:creator>
  <dc:description/>
  <dc:language>en-US</dc:language>
  <cp:lastModifiedBy>Ryan  Sokoloff</cp:lastModifiedBy>
  <dcterms:modified xsi:type="dcterms:W3CDTF">2009-01-21T21:07:45Z</dcterms:modified>
  <cp:revision>2</cp:revision>
  <dc:subject/>
  <dc:title>PowerPoint Presentation</dc:title>
</cp:coreProperties>
</file>